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8A0-51CB-41F6-BDCA-EC86BED0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F6A-9352-425F-B766-39313115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ED44-2AB6-4D53-9212-D96FEF77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5CF-BB41-4B73-A6E9-A831E813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CCB5-1437-49F0-ABD9-777B5E41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1F7C-7D6E-470A-880E-BE988E0B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5989-54DD-4C6F-8926-93AA43CA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EB66-A281-45E8-86AD-B1D4ADD0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FEFB-DFF1-42E0-8043-616F8CD1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4AC2-7B5D-46C0-A701-39174FBE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5E52-5848-484A-BBED-B2A8D3AE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A68-55DA-4D1C-BD86-3AB84844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C011-9E13-4A2B-BD69-667D41F2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DD5D-DFB0-4BE0-BD57-AF4E27EF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2266-3884-4AF6-991D-F6B19A7E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5952-AC15-4536-8FB5-EDB894BE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E762-2E93-4909-8B36-F2D909EE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E769C-09AB-4DFD-A643-EFC0613CB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1B6BD-FC63-4046-93E0-5F98BDD4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06F53-D11F-4ACD-B259-8BE160DD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69203-9956-4F74-AF62-94FEF73A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0B8D9-3F46-40BF-A740-604C4D2B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B81-46C4-4758-885C-250C2B8A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45E33-3CBC-4933-8023-A895B419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2F521-161D-4EB5-B649-6FED1E18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D2EAE-DA62-4FD0-B30D-AF26A608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BD0A6-AC42-41D3-A3FF-2F86D79C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EBA96-6F47-45D2-B518-3697AE3D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35A6D-5CC1-4882-9E28-4887BBF7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E744C-8A6E-4850-A305-A738CBBF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E73CB-E0A9-4273-93DF-07E2E071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89C13-6C2B-4963-847F-CD8A1F9A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DA9D9-E323-4D03-A6A8-BB6184EB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5A7-0E5C-4C86-950A-C8FD2525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74F58-F567-465A-B100-427B37A6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EDA0B-AE6D-432C-8D24-FA186B7A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175B9-944E-4073-A8D7-7EB8EF75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09AD2-34DF-4299-9862-D7BCD27E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1693D-876A-43C7-B68D-65EB8FAC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59B24-EAA9-45F2-ADE3-ED69B496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C7C97-461C-4F97-A9F3-58DF2167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DB594-DABC-4A12-9ACD-B823580E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6BB4C-EC30-43F1-BE93-B58D8960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CB281-08CB-453C-B17C-89CD7A72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3FF-C721-4D72-A7BF-FC93A362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88CFB-BD16-4379-A153-73C600B9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37FD8-5151-4BE9-85F2-14C849A6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107E1-76A0-4E6F-8F37-FCE9A120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B9A2E-B50F-44C2-8E26-75057883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BDE2B-95CC-4AB5-AA42-C28F3CA1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32CE3-998F-4833-90C2-237DC99B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E6708-FE93-448D-8702-C984EBC1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E86E6-0015-49E2-B9A2-E4B00F9D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05561-A31A-47A2-8A98-CB7BD6E5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A2454-8262-481E-BEA5-4D488351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C9F9-742D-4E41-9D75-3A25F281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E6229-8E3A-47FA-8C39-E553E0D1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6C1F2-6A44-4653-9B1C-8A9FC920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DAEB0-E25F-4F47-9F93-F5CBE4CF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06A77-DCC1-4582-ACBB-92A56ECC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55C19-255F-403F-85A8-B2912DBB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4DD3B-C108-47C6-B1FC-A5DCC661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08089-51F9-4A88-9F2B-E0567E62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3B147-B8D6-4322-AE59-0DFC5A6A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B2384-4401-450E-90B7-2B240D4B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E9AAF-CBAB-4435-A76C-9695D0EF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F59-F530-416A-9F00-99A5F128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92D07-3C52-4223-AAC2-2C550849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BE2B2-EB05-49ED-B055-44EC516D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56218-761F-42B8-8DAE-2564E83F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48F-6755-45E4-AF00-6CFDFA24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BCFA-22EA-4AA6-8890-0BFE9111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E488-3DF5-48BE-909B-671480AA9DD9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13 Forma libre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14 Forma libre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12 Forma libre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15 Forma libre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16 Forma libre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17 Forma libre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18 Forma libre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19 Forma libre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20 Forma libre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21 Forma libre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22 Forma libre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23 Forma libre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24 Forma libre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25 Forma libre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26 Forma libre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6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7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8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9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10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11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8256-44C6-4AC0-8164-E2CBCA7EC93E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817B-C53B-4698-92E2-FA3923A7A0A0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24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15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16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17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18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19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20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21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28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29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C81C-F6EB-4581-8023-C5FFC76ABB7C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1CB6-021D-45AA-8638-1F5057DF462B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9 Grupo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266" name="14 Conector recto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15 Conector recto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16 Conector recto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13 Grupo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270" name="10 Conector recto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11 Conector recto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12 Conector recto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17 Grupo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274" name="18 Conector recto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19 Conector recto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20 Conector recto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038C-A97D-422B-95AE-D3A5D9D067EC}" type="slidenum">
              <a:rPr b="0" lang="es-E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logo_sena%5B1%5D"/>
          <p:cNvPicPr/>
          <p:nvPr/>
        </p:nvPicPr>
        <p:blipFill>
          <a:blip r:embed="rId1"/>
          <a:stretch/>
        </p:blipFill>
        <p:spPr>
          <a:xfrm>
            <a:off x="1835280" y="907920"/>
            <a:ext cx="5257800" cy="53787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onsolas"/>
              </a:rPr>
              <a:t>SISTEMAS DE INFORMACION DELL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39280" y="220500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Presentado a: Profesor Henry Vargas Díaz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Aprendices    : Diana Leguizam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Amadeo Gasc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Brandon Viva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Elizabeth Ariz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Sonia Pinz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990000"/>
                </a:solidFill>
                <a:latin typeface="Consolas"/>
              </a:rPr>
              <a:t>SISTEMAS DE INFORMACION PARA LA FIJACION DE                    PRECIOS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ORDENES DIRECTAS VIA TEL O INTERNE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orbel"/>
              </a:rPr>
              <a:t>*</a:t>
            </a: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DEMANDA REAL DE LOS CLIENT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COSTES DE BUSQUEDA CONSUMIDOR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COMPARAR PRECIOS A ESCALA GLOBA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FLUJOS DE TRANSACC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PERSONALIZAC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CAPACIDAD DE RESPUEST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Arial"/>
              </a:rPr>
              <a:t>*MAS BARATA DEBIDO AL FLUJO DE INFORMACION CLIENTES  PROVEEDOR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990000"/>
                </a:solidFill>
                <a:latin typeface="Consolas"/>
              </a:rPr>
              <a:t>TRANSPORTE DE LA INFORMAC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49" name="Picture 5" descr="Dibujo"/>
          <p:cNvPicPr/>
          <p:nvPr/>
        </p:nvPicPr>
        <p:blipFill>
          <a:blip r:embed="rId1"/>
          <a:stretch/>
        </p:blipFill>
        <p:spPr>
          <a:xfrm>
            <a:off x="1258920" y="1052640"/>
            <a:ext cx="6842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nsolas"/>
              </a:rPr>
              <a:t>INVENTARIOS</a:t>
            </a:r>
            <a:r>
              <a:rPr b="0" lang="es-CO" sz="40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26920" y="1413000"/>
            <a:ext cx="749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NO HAY </a:t>
            </a:r>
            <a:r>
              <a:rPr b="1" i="1" lang="es-CO" sz="1800" spc="-1" strike="noStrike">
                <a:solidFill>
                  <a:srgbClr val="990000"/>
                </a:solidFill>
                <a:latin typeface="Arial"/>
              </a:rPr>
              <a:t>STOCK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DE PRODUCTO TERMIN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STE MODELO ACUMULA TAN SÓLO 5 DÍAS DE INVEN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OS PROVEEDORES TIENEN LA CAPACIDAD DE REABASTEC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OS INVENTARIOS CON REGULA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LOS BAJOS NIVELES DE INVEN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TIQUETAS DE INVENTARIO EN SUS SISTEMAS ANTES DEL ENVÍ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EL COSTO DE ENSAMBLE ES C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nsolas"/>
              </a:rPr>
              <a:t>SEGURIDAD DE ACTIV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PREVIENEN LA PÉRDIDA O ROBO MEDIANTE LA INTEGRACIÓN DE FÁBRICA DE VARIOS DISPOSITIVOS ANTIRROBO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ETIQUETA ANTIRROBO STOPTRAC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ETIQUETA ANTIRROBO TL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66960" y="3106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nsolas"/>
              </a:rPr>
              <a:t>METRICAS DE INFORMACION</a:t>
            </a:r>
            <a:r>
              <a:rPr b="0" lang="es-CO" sz="40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3 Rectángulo"/>
          <p:cNvSpPr/>
          <p:nvPr/>
        </p:nvSpPr>
        <p:spPr>
          <a:xfrm>
            <a:off x="966960" y="1052640"/>
            <a:ext cx="7134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 DESARROLLA UNA ESTRATEGIA PARA DAR  ATENCIÓN PERSONALIZADA  A CADA NECESIDAD DE SUS CLIENTES, ESTA SE REDEFINE CADA DÍA CON CLARIDAD  DANDO UN BUEN HORIZONTE DE PRONOST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OFRECE UNA ALTA FRECUENCIA DE ACTUALIZACIÓN AL PERMITIR QUE SUS CLIENTES  EN EL  SITIO WEB  RESUELVAN PROBLEMAS CON SUS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61" name="1 Rectángulo"/>
          <p:cNvSpPr/>
          <p:nvPr/>
        </p:nvSpPr>
        <p:spPr>
          <a:xfrm>
            <a:off x="927000" y="692280"/>
            <a:ext cx="748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 RESOLVER DIARIAMENTE LOS PROBLEMAS DE SUS CLIENTES  (HARDWARE Y SOFTWARE) DELL  TIENE UN PRONOSTICO DE SU DEMANDA EXA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INTEGRA A SU EMPRESA  CLIENTES Y PROVEEDORES LO QUE LE PERMITE TENER UNA GESTIÓN ÁGIL A MEDIDA QUE ENTREGA SUS PRODUC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63" name="1 Rectángulo"/>
          <p:cNvSpPr/>
          <p:nvPr/>
        </p:nvSpPr>
        <p:spPr>
          <a:xfrm>
            <a:off x="826920" y="1052640"/>
            <a:ext cx="741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CUENTA CON CUIDADO EN LA WEB Y EN SUS SERVICIOS  UN SOPORTE ADECUADO ANTES Y DESPUÉS DE LA COMP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LL ELIMINA DE SU LISTA A LOS REVENDEDORES DE SUS PRODUCTOS ESTO LE PERMITE BRINDAR PRECIOS MAS ATRACTIVOS QUE LOS DE LA COMPET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orbel"/>
              </a:rPr>
              <a:t>GRACIAS POR SU ATENCION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onsolas"/>
              </a:rPr>
              <a:t>SISTEMAS DE INFORMACION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990000"/>
                </a:solidFill>
                <a:latin typeface="Consolas"/>
              </a:rPr>
              <a:t>CADENA DE SUMINISTR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orbel"/>
              </a:rPr>
              <a:t>Dell es una compañía líder mundial de ventas por Internet , mantiene una estrecha y satisfactoria relación directa  con sus clientes sin intermediarios y solo vende por pedido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s-CO" sz="3600" spc="-1" strike="noStrike">
                <a:solidFill>
                  <a:srgbClr val="000000"/>
                </a:solidFill>
                <a:latin typeface="Corbel"/>
              </a:rPr>
              <a:t>El éxito de la compañía se debe exclusivamente a su modelo de cadena de suministros  llamado alianza de suministros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s-CO" sz="2800" spc="-1" strike="noStrike">
                <a:solidFill>
                  <a:srgbClr val="0000ff"/>
                </a:solidFill>
                <a:latin typeface="Corbel"/>
              </a:rPr>
              <a:t>CLIENTES </a:t>
            </a:r>
            <a:r>
              <a:rPr b="0" lang="es-CO" sz="28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0" lang="es-CO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s-CO" sz="2800" spc="-1" strike="noStrike">
                <a:solidFill>
                  <a:srgbClr val="990000"/>
                </a:solidFill>
                <a:latin typeface="Corbel"/>
              </a:rPr>
              <a:t>MANUFACTURA</a:t>
            </a:r>
            <a:r>
              <a:rPr b="0" lang="es-CO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s-CO" sz="2800" spc="-1" strike="noStrike">
                <a:solidFill>
                  <a:srgbClr val="0000ff"/>
                </a:solidFill>
                <a:latin typeface="Corbel"/>
              </a:rPr>
              <a:t>PROVEEDO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3132000" y="4869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2987640" y="479736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27288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32" name="3 Marcador de contenido" descr=""/>
          <p:cNvPicPr/>
          <p:nvPr/>
        </p:nvPicPr>
        <p:blipFill>
          <a:blip r:embed="rId1"/>
          <a:stretch/>
        </p:blipFill>
        <p:spPr>
          <a:xfrm>
            <a:off x="500040" y="414360"/>
            <a:ext cx="82836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ff"/>
                </a:solidFill>
                <a:latin typeface="Consolas"/>
              </a:rPr>
              <a:t>INFORMACION CON LOS CLIENT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14400" y="1125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1. El poder de negociación con el client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2. Manejo de bajos costos, venta directa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3. Calidad en sus productos y servicios,     velocidad en sus tiempos de entreg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4.Primera empresa en utilizar el comercio       electrónico con éxit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5.Conexión directa con el client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66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ff"/>
                </a:solidFill>
                <a:latin typeface="Consolas"/>
              </a:rPr>
              <a:t>INFORMACION CON LOS CLIENTES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77724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6.Elimina la figura del intermediari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7. La fabricación contra pedid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8. El producto es totalmente configurable por el cliente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9. Toma del pedido por Internet / teléfon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10.Observa demanda real antes que la competencia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11.Reacción rápida a las necesidades de los client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990000"/>
                </a:solidFill>
                <a:latin typeface="Consolas"/>
              </a:rPr>
              <a:t>TECNOLOGIAS DE INFORMACION  ADECUADAS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Intercambio electrónico de dato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Interne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</a:t>
            </a: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ERP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(Sistemas de Planeacion de recursos empresariales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</a:t>
            </a: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 SCM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(Software administrativo de la cadena de suministros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.   </a:t>
            </a:r>
            <a:r>
              <a:rPr b="1" lang="es-CO" sz="3000" spc="-1" strike="noStrike">
                <a:solidFill>
                  <a:srgbClr val="990000"/>
                </a:solidFill>
                <a:latin typeface="Corbel"/>
              </a:rPr>
              <a:t>RFID</a:t>
            </a:r>
            <a:r>
              <a:rPr b="1" lang="es-CO" sz="3000" spc="-1" strike="noStrike">
                <a:solidFill>
                  <a:srgbClr val="000000"/>
                </a:solidFill>
                <a:latin typeface="Corbel"/>
              </a:rPr>
              <a:t> (Identificación por radio frecuencia</a:t>
            </a:r>
            <a:r>
              <a:rPr b="0" lang="es-CO" sz="30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ttp://bolivarzuiga.com/wp-content/uploads/2010/07/Dell-logo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53040" cy="52578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1" lang="es-CO" sz="2800" spc="-1" strike="noStrike">
                <a:solidFill>
                  <a:srgbClr val="990000"/>
                </a:solidFill>
                <a:latin typeface="Consolas"/>
              </a:rPr>
              <a:t>FIJACION DE PRECIOS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LA COMPAÑÍA DECIDE CUANTO COBRA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IGUALA OFERTA Y DEMAND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AFECTA EL NIVEL Y EL TIPO DE DEMAND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Corbel"/>
              </a:rPr>
              <a:t>*ESTRATEGIA COMPETITIV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3:32:34Z</dcterms:created>
  <dc:creator>Interventoria_Sur</dc:creator>
  <dc:description/>
  <dc:language>en-US</dc:language>
  <cp:lastModifiedBy>Amadeo</cp:lastModifiedBy>
  <dcterms:modified xsi:type="dcterms:W3CDTF">2012-05-10T00:25:27Z</dcterms:modified>
  <cp:revision>54</cp:revision>
  <dc:subject/>
  <dc:title>Diapositiva 1</dc:title>
</cp:coreProperties>
</file>