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B61-59F1-4C2A-BE73-830C9E33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8AC-D898-4A6C-9F42-4644159C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0AE-4B11-41EF-90B3-EFFB7A1D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63C-902B-4EF3-99B1-68CF9D9C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3E4B-9EF3-4E22-BCFE-7D66504F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9A3A-3892-4E90-8656-16A4E621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81DD-A94E-4BB2-A8D4-74BB207A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D27F-9D67-4816-AEAB-EE49B9A6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CC9C-AC98-4754-8143-E273C729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6B09-6E2D-446D-9F7A-11AC007B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A06A-05DC-4227-84EF-16CE4DB7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AEC-52A6-4617-8C02-024DF3EC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B1B1-FE1D-4BED-96B6-AAC52823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0A45-2CA1-4CB3-8252-4A4EB2E1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219B-8D9B-4E50-ABF2-9F83B944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736D-4D0B-4FC4-A82B-F8B38965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F6AE-250A-49A4-82B1-DBD45CAB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4BC3F-53F3-475D-9FDE-613CF827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DDF34-A0A0-40C9-82CF-527ECD40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20D18-B783-4E10-8C09-441A7FB0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E0DA-A8BC-41B7-A60D-0067A8A8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4FE0-E84B-47D8-A9B8-F4F747F2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9C9-8265-45EF-ACBE-61FF694F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F45C-7530-411E-ABCB-A2AE0322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F3CB-B9AE-4722-98C9-4DF89C8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B3544-6579-4518-83E8-DE1B0E0F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2667-27E8-4B82-A08C-650A135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BE1D7-EB60-47A0-B67D-5A88CA12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775CD-D102-4A8F-AE62-EC171112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F8ED2-CA98-4AAA-A4FF-AEB67C22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EA6FC-9628-4F65-9405-F67C7FEC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F3979-9FAD-4D1B-9A59-29911DDF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48F51-E8CC-45E2-A92A-94D86A10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1615-9B63-4E94-8816-74A1FC0A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A89F7-D335-496B-8859-8D5772F4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CBA89-AF33-41B3-B64F-31D69F14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AC00E-652F-429F-AB3A-D4C2E422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CBF2D-08DF-46D0-B8FE-A7262BF1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BA94B-C839-4813-9C9C-AC32CB29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5F59B-21C4-4B1C-8F0E-3AFC3F4E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30088-7548-4DDB-A7C9-266ADC3D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A59E3-2C3A-4A4E-BF25-25E0BF1B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76C2B-9EF8-4813-8670-3D4770E1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3DB36-874F-46EB-9974-9F343362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813-59D4-4617-9EBF-5282A685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59BF4-F948-4C34-BDD7-1CF15329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9B600-A094-4DC8-A293-79BB1247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9C092-1A9A-45AA-811D-9C87BCBB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41D4C-F3F9-41C3-A2D2-7607EC06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7886B-8017-43DA-8A64-90711951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41145-94F7-48EB-8A47-A022D05A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AD80B-7AA6-408A-9224-D63323B9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E8761-8BE7-4B6F-B69B-AEFFA1CE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C67BC-78D9-4AA3-9E04-244E0352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693ED-A4D6-4595-A252-B1B207B2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B9F-864F-4F86-83D4-F72235FE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B72C6-C8AE-415D-8FEE-CE459163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727F3-6C01-4C95-B5A9-1BDE7A63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EA478-E70D-4887-AA79-DD678713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238D3-673B-4924-BA23-7FF8A4A7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A4172-E1D8-4B9C-B2DE-7D168764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A6A37-2C5C-4B68-8C55-8E79FB78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57ED0-6C4B-4648-9A65-68C73737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03779-4D54-4581-AD55-6545657D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4FB9E-CD2C-4D4B-BFF8-065C1657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7EAB5-9ABA-4CD2-968D-BC38829C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D94-B704-4E3A-914D-AD538C2C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813E9-5CD1-4315-994C-6A9617D5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A2AE7-7832-49D5-9B1C-DDEDBBC4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2C7A0-1837-4C3B-88DF-8DEFBFA9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D58-49F8-4F6C-878E-37E9E623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D83-6ACA-4B63-B25D-9FE10D1E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C13F-5446-4424-8932-1E9A146876E6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13 Forma libre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14 Forma libre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12 Forma libre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15 Forma libre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16 Forma libre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17 Forma libre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18 Forma libre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19 Forma libre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20 Forma libre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21 Forma libre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22 Forma libre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23 Forma libre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24 Forma libre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25 Forma libre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26 Forma libre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6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7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8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9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0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1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5C5E-3D1C-4DED-9598-0AC7D44B1288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82FF-4A66-44D9-B9B7-9E48E913E646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24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15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16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7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8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9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20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21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28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29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18F9-96DA-4F97-BCBA-1C07845EC4A8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8B4B-D6C3-43BD-AB8E-86E5316CA221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9 Grupo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266" name="14 Conector recto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15 Conector recto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16 Conector recto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13 Grupo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270" name="10 Conector recto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11 Conector recto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12 Conector recto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17 Grupo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274" name="18 Conector recto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19 Conector recto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20 Conector recto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4EBF-24B5-4150-B7DE-8FB57DF1A655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logo_sena%5B1%5D"/>
          <p:cNvPicPr/>
          <p:nvPr/>
        </p:nvPicPr>
        <p:blipFill>
          <a:blip r:embed="rId1"/>
          <a:stretch/>
        </p:blipFill>
        <p:spPr>
          <a:xfrm>
            <a:off x="1835280" y="907920"/>
            <a:ext cx="5257800" cy="53787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onsolas"/>
              </a:rPr>
              <a:t>SISTEMAS DE INFORMACION DELL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Presentado a: Profesor Henry Vargas Díaz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Aprendices    : Diana Leguizam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Amadeo Gasc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Brandon Viva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Elizabeth Ariz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Sonia Pinz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90000"/>
                </a:solidFill>
                <a:latin typeface="Consolas"/>
              </a:rPr>
              <a:t>SISTEMAS DE INFORMACION PARA LA FIJACION DE                    PRECIOS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ORDENES DIRECTAS VIA TEL O INTERNE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DEMANDA REAL DE LOS CLIENT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OSTES DE BUSQUEDA CONSUMIDOR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OMPARAR PRECIOS A ESCALA GLOBA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FLUJOS DE TRANSACC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PERSONALIZAC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APACIDAD DE RESPUEST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MAS BARATA DEBIDO AL FLUJO DE INFORMACION CLIENTES  PROVEEDOR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990000"/>
                </a:solidFill>
                <a:latin typeface="Consolas"/>
              </a:rPr>
              <a:t>TRANSPORTE DE LA INFORMAC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49" name="Picture 5" descr="Dibujo"/>
          <p:cNvPicPr/>
          <p:nvPr/>
        </p:nvPicPr>
        <p:blipFill>
          <a:blip r:embed="rId1"/>
          <a:stretch/>
        </p:blipFill>
        <p:spPr>
          <a:xfrm>
            <a:off x="1258920" y="1052640"/>
            <a:ext cx="6842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INVENTARIOS</a:t>
            </a:r>
            <a:r>
              <a:rPr b="0" lang="es-CO" sz="4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26920" y="1413000"/>
            <a:ext cx="749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NO HAY </a:t>
            </a:r>
            <a:r>
              <a:rPr b="1" i="1" lang="es-CO" sz="1800" spc="-1" strike="noStrike">
                <a:solidFill>
                  <a:srgbClr val="990000"/>
                </a:solidFill>
                <a:latin typeface="Arial"/>
              </a:rPr>
              <a:t>STOCK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DE PRODUCTO TERMIN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STE MODELO ACUMULA TAN SÓLO 5 DÍAS DE INVEN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PROVEEDORES TIENEN LA CAPACIDAD DE REABASTEC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INVENTARIOS CON REGULA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BAJOS NIVELES DE INVEN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TIQUETAS DE INVENTARIO EN SUS SISTEMAS ANTES DEL ENVÍ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L COSTO DE ENSAMBLE ES C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SEGURIDAD DE ACTIV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PREVIENEN LA PÉRDIDA O ROBO MEDIANTE LA INTEGRACIÓN DE FÁBRICA DE VARIOS DISPOSITIVOS ANTIRROBO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TIQUETA ANTIRROBO STOPTRAC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TIQUETA ANTIRROBO T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66960" y="3106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METRICAS DE INFORMACION</a:t>
            </a:r>
            <a:r>
              <a:rPr b="0" lang="es-CO" sz="4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3 Rectángulo"/>
          <p:cNvSpPr/>
          <p:nvPr/>
        </p:nvSpPr>
        <p:spPr>
          <a:xfrm>
            <a:off x="966960" y="1052640"/>
            <a:ext cx="7134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 DESARROLLA UNA ESTRATEGIA PARA DAR  ATENCIÓN PERSONALIZADA  A CADA NECESIDAD DE SUS CLIENTES, ESTA SE REDEFINE CADA DÍA CON CLARIDAD  DANDO UN BUEN HORIZONTE DE PRONOS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OFRECE UNA ALTA FRECUENCIA DE ACTUALIZACIÓN AL PERMITIR QUE SUS CLIENTES  EN EL  SITIO WEB  RESUELVAN PROBLEMAS CON SUS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1" name="1 Rectángulo"/>
          <p:cNvSpPr/>
          <p:nvPr/>
        </p:nvSpPr>
        <p:spPr>
          <a:xfrm>
            <a:off x="927000" y="692280"/>
            <a:ext cx="748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 RESOLVER DIARIAMENTE LOS PROBLEMAS DE SUS CLIENTES  (HARDWARE Y SOFTWARE) DELL  TIENE UN PRONOSTICO DE SU DEMANDA EXA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INTEGRA A SU EMPRESA  CLIENTES Y PROVEEDORES LO QUE LE PERMITE TENER UNA GESTIÓN ÁGIL A MEDIDA QUE ENTREGA SUS PRODU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3" name="1 Rectángulo"/>
          <p:cNvSpPr/>
          <p:nvPr/>
        </p:nvSpPr>
        <p:spPr>
          <a:xfrm>
            <a:off x="826920" y="1052640"/>
            <a:ext cx="741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CUENTA CON CUIDADO EN LA WEB Y EN SUS SERVICIOS  UN SOPORTE ADECUADO ANTES Y DESPUÉS DE LA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ELIMINA DE SU LISTA A LOS REVENDEDORES DE SUS PRODUCTOS ESTO LE PERMITE BRINDAR PRECIOS MAS ATRACTIVOS QUE LOS DE LA COMPET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orbel"/>
              </a:rPr>
              <a:t>GRACIAS POR SU ATENCION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onsolas"/>
              </a:rPr>
              <a:t>SISTEMAS DE INFORMACION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990000"/>
                </a:solidFill>
                <a:latin typeface="Consolas"/>
              </a:rPr>
              <a:t>CADENA DE SUMINISTR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rbel"/>
              </a:rPr>
              <a:t>Dell es una compañía líder mundial de ventas por Internet , mantiene una estrecha y satisfactoria relación directa  con sus clientes sin intermediarios y solo vende por pedido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s-CO" sz="3600" spc="-1" strike="noStrike">
                <a:solidFill>
                  <a:srgbClr val="000000"/>
                </a:solidFill>
                <a:latin typeface="Corbel"/>
              </a:rPr>
              <a:t>El éxito de la compañía se debe exclusivamente a su modelo de cadena de suministros  llamado alianza de suministros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s-CO" sz="2800" spc="-1" strike="noStrike">
                <a:solidFill>
                  <a:srgbClr val="0000ff"/>
                </a:solidFill>
                <a:latin typeface="Corbel"/>
              </a:rPr>
              <a:t>CLIENTES </a:t>
            </a:r>
            <a:r>
              <a:rPr b="0" lang="es-CO" sz="28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s-CO" sz="2800" spc="-1" strike="noStrike">
                <a:solidFill>
                  <a:srgbClr val="990000"/>
                </a:solidFill>
                <a:latin typeface="Corbel"/>
              </a:rPr>
              <a:t>MANUFACTURA</a:t>
            </a: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s-CO" sz="2800" spc="-1" strike="noStrike">
                <a:solidFill>
                  <a:srgbClr val="0000ff"/>
                </a:solidFill>
                <a:latin typeface="Corbel"/>
              </a:rPr>
              <a:t>PROVEEDO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132000" y="4869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2987640" y="479736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2728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2" name="3 Marcador de contenido" descr=""/>
          <p:cNvPicPr/>
          <p:nvPr/>
        </p:nvPicPr>
        <p:blipFill>
          <a:blip r:embed="rId1"/>
          <a:stretch/>
        </p:blipFill>
        <p:spPr>
          <a:xfrm>
            <a:off x="500040" y="414360"/>
            <a:ext cx="8283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ff"/>
                </a:solidFill>
                <a:latin typeface="Consolas"/>
              </a:rPr>
              <a:t>INFORMACION CON LOS CLIENT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14400" y="1125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1. El poder de negociación con el client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2. Manejo de bajos costos, venta direct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3. Calidad en sus productos y servicios,     velocidad en sus tiempos de entreg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4.Primera empresa en utilizar el comercio       electrónico con éxit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5.Conexión directa con el client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ff"/>
                </a:solidFill>
                <a:latin typeface="Consolas"/>
              </a:rPr>
              <a:t>INFORMACION CON LOS CLIENT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77724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6.Elimina la figura del intermediari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7. La fabricación contra pedid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8. El producto es totalmente configurable por el client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9. Toma del pedido por Internet / teléfon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10.Observa demanda real antes que la competenci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11.Reacción rápida a las necesidades de los client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990000"/>
                </a:solidFill>
                <a:latin typeface="Consolas"/>
              </a:rPr>
              <a:t>TECNOLOGIAS DE INFORMACION  ADECUADAS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Intercambio electrónico de dato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Interne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RP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Sistemas de Planeacion de recursos empresariale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 SCM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Software administrativo de la cadena de suministro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RFID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Identificación por radio frecuencia</a:t>
            </a:r>
            <a:r>
              <a:rPr b="0" lang="es-CO" sz="30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s-CO" sz="2800" spc="-1" strike="noStrike">
                <a:solidFill>
                  <a:srgbClr val="990000"/>
                </a:solidFill>
                <a:latin typeface="Consolas"/>
              </a:rPr>
              <a:t>FIJACION DE PRECIOS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LA COMPAÑÍA DECIDE CUANTO COBRA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IGUALA OFERTA Y DEMAND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AFECTA EL NIVEL Y EL TIPO DE DEMAND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ESTRATEGIA COMPETITIV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3:32:34Z</dcterms:created>
  <dc:creator>Interventoria_Sur</dc:creator>
  <dc:description/>
  <dc:language>en-US</dc:language>
  <cp:lastModifiedBy>Amadeo</cp:lastModifiedBy>
  <dcterms:modified xsi:type="dcterms:W3CDTF">2012-05-10T00:25:27Z</dcterms:modified>
  <cp:revision>54</cp:revision>
  <dc:subject/>
  <dc:title>Diapositiva 1</dc:title>
</cp:coreProperties>
</file>