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B15-B041-4D2A-B7BE-6B14EBFF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605-C848-4092-9310-F7B163F3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BC2-4BD0-4B47-91FA-F4C8C236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9AE-33D3-46F4-96A0-1B970448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F797-4552-46EA-ACE2-52C5EA34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E173-EDD3-4D82-A730-30926F6F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A8A4-2AC0-44C8-9456-F90260E1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B6EA-7C23-48FD-9DC3-C8125C7D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5F01-C135-4D5E-AEBF-418D6ED3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033F-2B73-45E4-B297-85C5900D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762A-BC4E-4DC9-AAB5-86634F5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621-2EC2-43F0-AD4D-3CA1EEA1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9137-36C0-4E6C-84F8-6A4B1CE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6AE1-064A-48FC-A2D9-83D74900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D669-EA81-48DA-A283-241F57F8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95D2-9CA0-41BD-9B0F-7E3BB01E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E294-3EB2-4523-A32F-71CCEDFC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4388F-6AA0-4604-A41B-595FF3D6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C401-45D6-409B-AC30-B0634CBF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72BA6-47B2-49B8-AD43-3D933E3E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9E6F5-4CC2-444A-9DCD-114725A9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989E2-A5D2-464C-82E9-B9E9E5B8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705-A240-4EBF-BA54-DAAD67DE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98DF-D68E-4F08-B5D7-7ECF0ACA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E3E83-388A-4516-A33E-6A8980F1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FE45-AABF-46BA-90B4-C3E3E684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82B9D-BC93-4A0A-81E2-4FB508C1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CF009-A5BA-41D9-A7DD-C2D05B1A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C07C4-9F42-4738-83FF-EEA74CD1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FDCD4-36BC-4BD0-AA0B-83B61E95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2D1FF-4F21-409E-9A28-C5B07FB4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AC034-C8EB-4EB7-8743-EA64BCE6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D7FF6-C0B5-40FA-B6C2-53E40042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505-3435-405C-843E-8CBFF75F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F8BA9-F72D-4925-A055-6BCF5B4C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D6E0C-E553-4D9A-9A5F-1D568670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A083A-752E-43F4-9F3C-CE7DB76C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9BDAE-4C57-49FC-9617-72761A0D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E34B9-B40B-420E-B9BD-59704E2C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22676-00E0-436C-A6B2-CED491EB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784FC-11AC-4DB9-BEB5-63A34437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6AEF4-017C-49F5-9137-6CE0668C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F248-A7BC-4B7F-B6BB-08B86DD5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5496A-1253-425E-9B37-3E8E97BD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4AD1-A6DD-4753-8441-C25FC294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AD948-204A-47E9-85C6-F1C3BAB7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4C8F6-E2C6-4DE6-9E37-EACF8CB8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F45D6-8B80-4C39-9515-AC71A2E0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92F5-A1B6-41DB-8485-7097E6C6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09C0C-D202-4D1D-878E-DEE2A027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B83E4-AA27-446E-9CCE-8737905B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F7C90-BEBE-48B0-9865-FF56A773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ECE92-1138-46D1-9E23-71EB337C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8FFE3-1913-4141-BAC7-837AD516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60E66-1808-4746-813D-14B52F82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4E0-7F36-42D8-8E86-597F6088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21A58-B468-44FF-8939-2BB59BE7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097D4-504B-4E21-B848-9CD9307F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87376-5AE8-4E1A-8C84-FAE13B2C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CCB08-F109-493B-89A2-6771D823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02D58-592A-41C3-92C0-291EA447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EA24F-23FB-4F45-A153-1A1296A2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4BAC2-4CD1-4F4A-92CA-52492A17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E3587-220B-408E-83C5-3784BE8C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CCD31-579A-4C89-A820-0107850F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6438D-3888-4EEB-826F-482BB055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681-1AEB-43D6-915E-E0010E36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E2108-D46F-4268-9744-7E8B97CC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4FC89-495A-4275-969A-AA70FEE3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259B6-6464-4B77-BA31-34F796D5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0B3-0639-4E6C-812B-8F638430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647-9218-4479-B1F5-B05ACCCE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A15A-927E-4021-9F9A-8E736F36388C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13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14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12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15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16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17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18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19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20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21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22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23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24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25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26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6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7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8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9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0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1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F8BF-F4C2-4F81-878F-76AD8EB93978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3972-B185-4C2A-B962-12C87CBA4A01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24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15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16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7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9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20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21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28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29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0713-B781-483C-B8E5-66338F90665A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3E43-6C70-491B-956C-133B813E397A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9 Grupo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266" name="14 Conector recto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15 Conector recto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16 Conector recto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13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270" name="10 Conector recto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11 Conector recto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12 Conector recto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17 Grupo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274" name="18 Conector recto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19 Conector recto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20 Conector recto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E033-8323-4CB1-AEB6-3803134DD357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logo_sena%5B1%5D"/>
          <p:cNvPicPr/>
          <p:nvPr/>
        </p:nvPicPr>
        <p:blipFill>
          <a:blip r:embed="rId1"/>
          <a:stretch/>
        </p:blipFill>
        <p:spPr>
          <a:xfrm>
            <a:off x="1835280" y="907920"/>
            <a:ext cx="5257800" cy="5378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onsolas"/>
              </a:rPr>
              <a:t>SISTEMAS DE INFORMACION DELL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Presentado a: Profesor Henry Vargas Díaz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Aprendices    : Diana Leguizam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Amadeo Gasc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Brandon Viva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Elizabeth Ariz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Sonia Pinz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90000"/>
                </a:solidFill>
                <a:latin typeface="Consolas"/>
              </a:rPr>
              <a:t>SISTEMAS DE INFORMACION PARA LA FIJACION DE                    PRECIOS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ORDENES DIRECTAS VIA TEL O INTERNE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DEMANDA REAL DE LOS CLIENT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OSTES DE BUSQUEDA CONSUMIDOR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OMPARAR PRECIOS A ESCALA GLOB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FLUJOS DE TRANSACC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PERSONALIZAC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APACIDAD DE RESPUEST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MAS BARATA DEBIDO AL FLUJO DE INFORMACION CLIENTES  PROVEEDOR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990000"/>
                </a:solidFill>
                <a:latin typeface="Consolas"/>
              </a:rPr>
              <a:t>TRANSPORTE DE LA INFORMAC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49" name="Picture 5" descr="Dibujo"/>
          <p:cNvPicPr/>
          <p:nvPr/>
        </p:nvPicPr>
        <p:blipFill>
          <a:blip r:embed="rId1"/>
          <a:stretch/>
        </p:blipFill>
        <p:spPr>
          <a:xfrm>
            <a:off x="1258920" y="105264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INVENTARIOS</a:t>
            </a:r>
            <a:r>
              <a:rPr b="0" lang="es-CO" sz="4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26920" y="1413000"/>
            <a:ext cx="749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NO HAY </a:t>
            </a:r>
            <a:r>
              <a:rPr b="1" i="1" lang="es-CO" sz="1800" spc="-1" strike="noStrike">
                <a:solidFill>
                  <a:srgbClr val="990000"/>
                </a:solidFill>
                <a:latin typeface="Arial"/>
              </a:rPr>
              <a:t>STOCK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DE PRODUCTO TERMIN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STE MODELO ACUMULA TAN SÓLO 5 DÍAS DE INVEN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PROVEEDORES TIENEN LA CAPACIDAD DE REABASTE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INVENTARIOS CON REGULA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BAJOS NIVELES DE INVEN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TIQUETAS DE INVENTARIO EN SUS SISTEMAS ANTES DEL ENVÍ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L COSTO DE ENSAMBLE ES C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SEGURIDAD DE ACTIV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PREVIENEN LA PÉRDIDA O ROBO MEDIANTE LA INTEGRACIÓN DE FÁBRICA DE VARIOS DISPOSITIVOS ANTIRROBO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TIQUETA ANTIRROBO STOPTRAC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TIQUETA ANTIRROBO T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66960" y="3106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METRICAS DE INFORMACION</a:t>
            </a:r>
            <a:r>
              <a:rPr b="0" lang="es-CO" sz="4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3 Rectángulo"/>
          <p:cNvSpPr/>
          <p:nvPr/>
        </p:nvSpPr>
        <p:spPr>
          <a:xfrm>
            <a:off x="966960" y="1052640"/>
            <a:ext cx="7134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 DESARROLLA UNA ESTRATEGIA PARA DAR  ATENCIÓN PERSONALIZADA  A CADA NECESIDAD DE SUS CLIENTES, ESTA SE REDEFINE CADA DÍA CON CLARIDAD  DANDO UN BUEN HORIZONTE DE PRONOS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OFRECE UNA ALTA FRECUENCIA DE ACTUALIZACIÓN AL PERMITIR QUE SUS CLIENTES  EN EL  SITIO WEB  RESUELVAN PROBLEMAS CON SUS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1" name="1 Rectángulo"/>
          <p:cNvSpPr/>
          <p:nvPr/>
        </p:nvSpPr>
        <p:spPr>
          <a:xfrm>
            <a:off x="927000" y="692280"/>
            <a:ext cx="748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 RESOLVER DIARIAMENTE LOS PROBLEMAS DE SUS CLIENTES  (HARDWARE Y SOFTWARE) DELL  TIENE UN PRONOSTICO DE SU DEMANDA EXA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INTEGRA A SU EMPRESA  CLIENTES Y PROVEEDORES LO QUE LE PERMITE TENER UNA GESTIÓN ÁGIL A MEDIDA QUE ENTREGA SUS PRODU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3" name="1 Rectángulo"/>
          <p:cNvSpPr/>
          <p:nvPr/>
        </p:nvSpPr>
        <p:spPr>
          <a:xfrm>
            <a:off x="826920" y="1052640"/>
            <a:ext cx="741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CUENTA CON CUIDADO EN LA WEB Y EN SUS SERVICIOS  UN SOPORTE ADECUADO ANTES Y DESPUÉS DE LA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ELIMINA DE SU LISTA A LOS REVENDEDORES DE SUS PRODUCTOS ESTO LE PERMITE BRINDAR PRECIOS MAS ATRACTIVOS QUE LOS DE LA COMPET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orbel"/>
              </a:rPr>
              <a:t>GRACIAS POR SU ATENCIO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onsolas"/>
              </a:rPr>
              <a:t>SISTEMAS DE INFORMACION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990000"/>
                </a:solidFill>
                <a:latin typeface="Consolas"/>
              </a:rPr>
              <a:t>CADENA DE SUMINISTR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rbel"/>
              </a:rPr>
              <a:t>Dell es una compañía líder mundial de ventas por Internet , mantiene una estrecha y satisfactoria relación directa  con sus clientes sin intermediarios y solo vende por pedido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s-CO" sz="3600" spc="-1" strike="noStrike">
                <a:solidFill>
                  <a:srgbClr val="000000"/>
                </a:solidFill>
                <a:latin typeface="Corbel"/>
              </a:rPr>
              <a:t>El éxito de la compañía se debe exclusivamente a su modelo de cadena de suministros  llamado alianza de suministros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s-CO" sz="2800" spc="-1" strike="noStrike">
                <a:solidFill>
                  <a:srgbClr val="0000ff"/>
                </a:solidFill>
                <a:latin typeface="Corbel"/>
              </a:rPr>
              <a:t>CLIENTES </a:t>
            </a:r>
            <a:r>
              <a:rPr b="0" lang="es-CO" sz="28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s-CO" sz="2800" spc="-1" strike="noStrike">
                <a:solidFill>
                  <a:srgbClr val="990000"/>
                </a:solidFill>
                <a:latin typeface="Corbel"/>
              </a:rPr>
              <a:t>MANUFACTURA</a:t>
            </a: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s-CO" sz="2800" spc="-1" strike="noStrike">
                <a:solidFill>
                  <a:srgbClr val="0000ff"/>
                </a:solidFill>
                <a:latin typeface="Corbel"/>
              </a:rPr>
              <a:t>PROVEEDO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132000" y="4869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2987640" y="479736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2728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2" name="3 Marcador de contenido" descr=""/>
          <p:cNvPicPr/>
          <p:nvPr/>
        </p:nvPicPr>
        <p:blipFill>
          <a:blip r:embed="rId1"/>
          <a:stretch/>
        </p:blipFill>
        <p:spPr>
          <a:xfrm>
            <a:off x="500040" y="414360"/>
            <a:ext cx="8283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ff"/>
                </a:solidFill>
                <a:latin typeface="Consolas"/>
              </a:rPr>
              <a:t>INFORMACION CON LOS CLIENT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125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1. El poder de negociación con el clien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2. Manejo de bajos costos, venta direct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3. Calidad en sus productos y servicios,     velocidad en sus tiempos de entreg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4.Primera empresa en utilizar el comercio       electrónico con éxit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5.Conexión directa con el client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ff"/>
                </a:solidFill>
                <a:latin typeface="Consolas"/>
              </a:rPr>
              <a:t>INFORMACION CON LOS CLIENT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6.Elimina la figura del intermediari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7. La fabricación contra pedid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8. El producto es totalmente configurable por el client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9. Toma del pedido por Internet / teléfon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10.Observa demanda real antes que la competenc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11.Reacción rápida a las necesidades de los client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990000"/>
                </a:solidFill>
                <a:latin typeface="Consolas"/>
              </a:rPr>
              <a:t>TECNOLOGIAS DE INFORMACION  ADECUADAS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Intercambio electrónico de dat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Interne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RP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Sistemas de Planeacion de recursos empresariale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 SCM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Software administrativo de la cadena de suministro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RFID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Identificación por radio frecuencia</a:t>
            </a:r>
            <a:r>
              <a:rPr b="0" lang="es-CO" sz="3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s-CO" sz="2800" spc="-1" strike="noStrike">
                <a:solidFill>
                  <a:srgbClr val="990000"/>
                </a:solidFill>
                <a:latin typeface="Consolas"/>
              </a:rPr>
              <a:t>FIJACION DE PRECIOS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LA COMPAÑÍA DECIDE CUANTO COBRA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IGUALA OFERTA Y DEMAND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AFECTA EL NIVEL Y EL TIPO DE DEMAND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ESTRATEGIA COMPETITIV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3:32:34Z</dcterms:created>
  <dc:creator>Interventoria_Sur</dc:creator>
  <dc:description/>
  <dc:language>en-US</dc:language>
  <cp:lastModifiedBy>Amadeo</cp:lastModifiedBy>
  <dcterms:modified xsi:type="dcterms:W3CDTF">2012-05-10T00:25:27Z</dcterms:modified>
  <cp:revision>54</cp:revision>
  <dc:subject/>
  <dc:title>Diapositiva 1</dc:title>
</cp:coreProperties>
</file>