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5BB-A3E7-45F4-80A6-7188F42E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23A-FB1E-4F26-A410-0812AD92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732-3329-4675-8182-84C8F6EB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770-4374-4658-B684-0D00896E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3225-6CAC-4333-8AB6-28753AC4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3C5C-8347-432C-9AE5-284645BD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D842-694A-4112-89EA-994976E5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60F8-6720-4A9A-B1F4-7165A23D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9E34-D3B7-41EC-B021-340C6AD7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CFF9-1A1F-4414-BD27-7056A169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A59F-0365-4A5F-ACCF-CFF2C7A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628-3933-4F70-AB4F-9F8E4B78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0973-E5A6-409D-8896-2A80C108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1C33-986C-4726-A9F2-3DA8A298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0947-3B19-4C49-840D-6DB2B006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F4A7-85AF-4AD7-BBCC-23B3A5AB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277E-DC60-413B-9A64-CB7F9F5E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AA069-ABFC-4562-A048-507FE01E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8F1C-B395-47EF-8936-78A2FAA6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D0E98-69FE-491B-AAA3-B3B9FA1D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36C5A-BEEF-4763-A2F3-D4B6E9B0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7584-4D48-4F12-AD81-3761F795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33C-50FD-47EF-8610-E5478C26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4013E-F85A-43AA-AA47-D2FBA359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3562-138E-4084-96B8-138087BF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25C7E-4CEF-4DD7-9275-F84A0DF6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50D4-EE1F-4269-8BA2-A0EEE001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99A3-F32D-4E5D-B27A-F2CD0EB1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EEC9-A782-4C4A-87D5-7CBC1F8D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5232-4396-469E-A7A1-D9FF3A1E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9C41-04EB-41F9-9BFC-0BFBD508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499F-F253-4121-8E3F-AE7429A5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0E35-7E93-4504-A0EF-716A854E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F68-E7C1-43EB-999D-B8E57B20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D15CC-7513-4235-8A14-19A57326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FF376-4F59-47CD-A3B3-6C251478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16963-44A9-4244-BA5C-BF5C4409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2FD01-F620-4E8B-AB43-57F9E3D5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CCD60-4A89-4AD9-A851-6EE01713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23B1F-8F99-4408-B79E-959A7931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79AD4-5895-41D7-9A08-09DD2F7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1EB2B-A875-4AA2-AC2F-E8354D2B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43C2-F2D3-42DF-B330-1BDCE4C4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66F8-CC70-4251-B221-362E2DF4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3DC-E7A1-4B1D-ACDE-5A12E1D6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D85B-CAE6-43AD-A9B1-8169689A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92270-FA65-4134-96BB-805F02F7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7628-7034-445F-B979-CE82091A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25047-55CC-43D3-8CBA-A71C86DB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2C470-24B5-4144-97F2-97D84815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A4B0C-C0A3-4B07-828C-CDD9F2E9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A2562-671A-49F0-8B09-A75CB92E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6DF70-2009-4B6A-907F-8202B28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4E75F-273F-42B9-9C6F-A770B7E8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A420-3875-4AD2-8DDB-72D4FBB4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C47-CFD5-4299-9682-A4B21B59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16F8E-6B81-4AC5-9689-F6DAAAD9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9CCAF-1997-490E-9438-2E164F68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713BF-C666-4F75-8253-E34ABCF9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5208-3FBF-4A77-82A7-439E6AF2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1B32B-F21A-41F3-894C-84DB3642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9FE1F-5B1A-4CE9-A9AA-9C637E8C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31E26-FAED-41EA-94E7-D97BE03D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1E5B3-4486-48E1-92B0-B91D1E32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92B8C-60DF-44FC-90AB-CE524D6A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17815-CF58-446E-B2C9-83B04B7D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858-D970-4CFA-8A93-3EA142F2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CAA85-8CEB-41BB-BD70-85DF161E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2578-8E72-4C68-8C98-7BBD84A9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5F78A-A0CB-40D7-BC24-3A3017FE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AB3-1879-49B1-A1E9-41D8A208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7D3-5ED7-4AF6-812F-C44DB5A3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8EFC-2B8C-4B7C-9C11-58320CB89A3C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13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14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12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15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16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17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18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19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20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21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22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23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24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25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26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6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7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8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9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0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1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03AC-DE02-44D4-9D96-BFCD06475220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7B6D-8191-4080-89CE-0D291250DA63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24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15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16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7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9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20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21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28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29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D73-BBD3-4F18-BAEA-B753944DFF39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0DBF-1914-48C8-9FF0-4EABBECCC6E1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9 Grupo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266" name="14 Conector recto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15 Conector recto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16 Conector recto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13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270" name="10 Conector recto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11 Conector recto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12 Conector recto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17 Grupo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274" name="18 Conector recto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19 Conector recto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20 Conector recto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D92A-F09F-474F-B460-9DFD37CB8DD9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logo_sena%5B1%5D"/>
          <p:cNvPicPr/>
          <p:nvPr/>
        </p:nvPicPr>
        <p:blipFill>
          <a:blip r:embed="rId1"/>
          <a:stretch/>
        </p:blipFill>
        <p:spPr>
          <a:xfrm>
            <a:off x="1835280" y="907920"/>
            <a:ext cx="5257800" cy="5378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onsolas"/>
              </a:rPr>
              <a:t>SISTEMAS DE INFORMACION DELL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sentado a: Profesor Henry Vargas Díaz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prendices    : Diana Leguizam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madeo Gasc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Brandon Viv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Elizabeth Ariz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Sonia Pinz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90000"/>
                </a:solidFill>
                <a:latin typeface="Consolas"/>
              </a:rPr>
              <a:t>SISTEMAS DE INFORMACION PARA LA FIJACION DE                    PRECIOS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ORDENES DIRECTAS VIA TEL O INTERN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DEMANDA REAL DE LOS CLIENT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STES DE BUSQUEDA CONSUMI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MPARAR PRECIOS A ESCALA GLOB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FLUJOS DE TRANSAC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PERSONALIZA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APACIDAD DE RESPUEST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MAS BARATA DEBIDO AL FLUJO DE INFORMACION CLIENTES  PROVEE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TRANSPORTE DE LA INFORMAC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49" name="Picture 5" descr="Dibujo"/>
          <p:cNvPicPr/>
          <p:nvPr/>
        </p:nvPicPr>
        <p:blipFill>
          <a:blip r:embed="rId1"/>
          <a:stretch/>
        </p:blipFill>
        <p:spPr>
          <a:xfrm>
            <a:off x="1258920" y="105264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INVENTARIOS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26920" y="1413000"/>
            <a:ext cx="749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NO HAY </a:t>
            </a:r>
            <a:r>
              <a:rPr b="1" i="1" lang="es-CO" sz="1800" spc="-1" strike="noStrike">
                <a:solidFill>
                  <a:srgbClr val="990000"/>
                </a:solidFill>
                <a:latin typeface="Arial"/>
              </a:rPr>
              <a:t>STOCK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DE PRODUCTO TERM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STE MODELO ACUMULA TAN SÓLO 5 DÍA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PROVEEDORES TIENEN LA CAPACIDAD DE REABASTE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INVENTARIOS CON REGULA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BAJOS NIVELE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TIQUETAS DE INVENTARIO EN SUS SISTEMAS ANTES DEL ENVÍ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L COSTO DE ENSAMBLE ES C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SEGURIDAD DE AC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VIENEN LA PÉRDIDA O ROBO MEDIANTE LA INTEGRACIÓN DE FÁBRICA DE VARIOS DISPOSITIVOS ANTIRROBO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STOPTRAC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T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66960" y="3106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METRICAS DE INFORMACION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3 Rectángulo"/>
          <p:cNvSpPr/>
          <p:nvPr/>
        </p:nvSpPr>
        <p:spPr>
          <a:xfrm>
            <a:off x="966960" y="1052640"/>
            <a:ext cx="7134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 DESARROLLA UNA ESTRATEGIA PARA DAR  ATENCIÓN PERSONALIZADA  A CADA NECESIDAD DE SUS CLIENTES, ESTA SE REDEFINE CADA DÍA CON CLARIDAD  DANDO UN BUEN HORIZONTE DE PRONOS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OFRECE UNA ALTA FRECUENCIA DE ACTUALIZACIÓN AL PERMITIR QUE SUS CLIENTES  EN EL  SITIO WEB  RESUELVAN PROBLEMAS CON SU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1" name="1 Rectángulo"/>
          <p:cNvSpPr/>
          <p:nvPr/>
        </p:nvSpPr>
        <p:spPr>
          <a:xfrm>
            <a:off x="927000" y="692280"/>
            <a:ext cx="748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 RESOLVER DIARIAMENTE LOS PROBLEMAS DE SUS CLIENTES  (HARDWARE Y SOFTWARE) DELL  TIENE UN PRONOSTICO DE SU DEMANDA EXA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INTEGRA A SU EMPRESA  CLIENTES Y PROVEEDORES LO QUE LE PERMITE TENER UNA GESTIÓN ÁGIL A MEDIDA QUE ENTREGA SUS 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3" name="1 Rectángulo"/>
          <p:cNvSpPr/>
          <p:nvPr/>
        </p:nvSpPr>
        <p:spPr>
          <a:xfrm>
            <a:off x="826920" y="1052640"/>
            <a:ext cx="741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CUENTA CON CUIDADO EN LA WEB Y EN SUS SERVICIOS  UN SOPORTE ADECUADO ANTES Y DESPUÉS DE LA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ELIMINA DE SU LISTA A LOS REVENDEDORES DE SUS PRODUCTOS ESTO LE PERMITE BRINDAR PRECIOS MAS ATRACTIVOS QUE LOS DE LA COMPE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rbel"/>
              </a:rPr>
              <a:t>GRACIAS POR SU ATENCIO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nsolas"/>
              </a:rPr>
              <a:t>SISTEMAS DE INFORMACION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CADENA DE SUMINISTR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rbel"/>
              </a:rPr>
              <a:t>Dell es una compañía líder mundial de ventas por Internet , mantiene una estrecha y satisfactoria relación directa  con sus clientes sin intermediarios y solo vende por pedido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3600" spc="-1" strike="noStrike">
                <a:solidFill>
                  <a:srgbClr val="000000"/>
                </a:solidFill>
                <a:latin typeface="Corbel"/>
              </a:rPr>
              <a:t>El éxito de la compañía se debe exclusivamente a su modelo de cadena de suministros  llamado alianza de suministros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CLIENTES </a:t>
            </a:r>
            <a:r>
              <a:rPr b="0" lang="es-CO" sz="2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990000"/>
                </a:solidFill>
                <a:latin typeface="Corbel"/>
              </a:rPr>
              <a:t>MANUFACTURA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PROVEEDO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132000" y="4869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987640" y="4797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2728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2" name="3 Marcador de contenido" descr=""/>
          <p:cNvPicPr/>
          <p:nvPr/>
        </p:nvPicPr>
        <p:blipFill>
          <a:blip r:embed="rId1"/>
          <a:stretch/>
        </p:blipFill>
        <p:spPr>
          <a:xfrm>
            <a:off x="500040" y="414360"/>
            <a:ext cx="8283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125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1. El poder de negociación con el clien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2. Manejo de bajos costos, venta direct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3. Calidad en sus productos y servicios,     velocidad en sus tiempos de entreg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4.Primera empresa en utilizar el comercio       electrónico con éxit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5.Conexión directa con el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6.Elimina la figura del intermediari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7. La fabricación contra pedid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8. El producto es totalmente configurable por el client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9. Toma del pedido por Internet / teléfon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0.Observa demanda real antes que la competenc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1.Reacción rápida a las necesidades de los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TECNOLOGIAS DE INFORMACION  ADECUADA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cambio electrónico de dat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ne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RP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istemas de Planeacion de recursos empresariale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 SCM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oftware administrativo de la cadena de suministro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RFID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Identificación por radio frecuencia</a:t>
            </a: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FIJACION DE PRECIO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LA COMPAÑÍA DECIDE CUANTO COBRA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IGUALA OFERTA Y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AFECTA EL NIVEL Y EL TIPO DE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ESTRATEGIA COMPETITIV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32:34Z</dcterms:created>
  <dc:creator>Interventoria_Sur</dc:creator>
  <dc:description/>
  <dc:language>en-US</dc:language>
  <cp:lastModifiedBy>Amadeo</cp:lastModifiedBy>
  <dcterms:modified xsi:type="dcterms:W3CDTF">2012-05-10T00:25:27Z</dcterms:modified>
  <cp:revision>54</cp:revision>
  <dc:subject/>
  <dc:title>Diapositiva 1</dc:title>
</cp:coreProperties>
</file>