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E7F-DE9C-4210-93C3-A6D17E01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004B-06CA-45EC-9827-86D6682B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464-60E1-4873-B6EB-43B51048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A83A-2C3F-4014-BB9E-F856BAA0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CB61-C391-405F-9696-A3D5A057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5875-1BB9-4ADF-9B2A-6540DFC5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2E0B-9DFD-4287-B3A8-77AF10D6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E942-11BD-41EB-96E0-26AC9E88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5BA9-093D-4F12-9997-5CE9BD27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31B4-F386-4481-A37A-00867BA2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75C2-74D8-465D-ADB3-E974C4FE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C845-6EB8-4C21-9E16-BE4B2471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48EC-8C34-4322-8CBB-D1E6157E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53EE-A8A6-4431-90AB-391659A6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4567-F94F-46A3-B471-9340E5EB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8354-C881-41BF-AF06-751C1142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2535-9D05-4126-A0BB-9D5DD1D9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FB232-A9DC-4D7B-9C2F-64C1BD2B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7FC8-22FF-49F1-AF22-90BEAEAF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4843D-C88F-4C03-9B1C-927813F5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7CC58-DAF4-4EC0-9ED3-C27D5090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6385B-1DC4-4750-B415-0C9680AA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7FF-71D1-4873-AEC5-878A3DA6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4C9F2-D4F2-4241-AC93-40E11D41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1741C-88A3-434C-8B5A-DCBF7010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0DA82-6288-4E19-BBAE-7760E3A5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3A665-CF37-4FDE-A16D-BD8B7601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B789A-BA57-4F78-9404-0BE1C2B1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C3C7D-C4DB-4987-B7EC-9E6D64AF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7C180-3C7E-4836-8E16-7116838B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1058E-EB7F-4CCE-A8A2-53C8D6E3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413AD-267B-4990-8FF6-3806DE31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FC57D-0D13-4085-9D76-93F88AC1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60D-135D-43F8-B726-E67CD483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13206-BDBB-4727-85FC-D82FD60E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AB5E3-397D-455E-8AE2-9598407D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551BE-AE86-4E6F-9FA7-0FF60EC8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63477-5784-402C-B292-958481CF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48F42-752D-4DA6-A9BB-1A122175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4BF32-3DD0-40CA-8A00-AACCF665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CA412-B27F-43C2-A1BF-AE597631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D6FCD-B7F5-4929-9A66-A04FAF63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D2B58-7248-40DA-9E68-DF141C9C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C5CBC-6491-41C4-8E7D-B2E26E25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86B-9024-4ECC-90ED-ED07B8F1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57CEB-D938-4B71-945C-E37DA7C3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C3235-7C22-4113-BCC2-2E6A0A10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2B468-424D-4A4E-9682-DF5785D9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13BB8-10E1-4BCA-B530-A6455AB0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1E530-B262-4248-9527-7123C3D6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28826-F21B-4D4F-A027-3D3B16D0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F9C14-EB20-4CB9-9B3C-B34B664C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54D55-5611-45F2-84DC-D58C0C9A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A21D6-2F36-46BF-B6BD-EAFC9111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94CA9-ED13-432E-9751-7661775E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D53A-8F58-444E-9AA4-2711F51E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79C05-D2C3-44F8-96EF-460AF6DB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E6D35-5EE8-46A8-847F-7FBA4B30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F1B65-9147-4A99-87E3-F122F2A9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F9FED-3EDF-40B6-A12A-1A01D759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50266-34FD-4474-8898-73A604C3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2BABB-D9FF-42E0-8D11-E7F8C3BE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689A0-47F7-4E90-BD42-C414C373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E3640-F410-4A80-81FE-04815D27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A23DF-D28B-4952-A3D0-99B6281F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5C4A6-A6AD-4A47-A901-902192B5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55F-866B-49E5-BD97-F6951E33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EEC02-C560-487E-9BFB-E04BEB02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B5E09-AD91-4609-85DC-4262D83E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C63CE-A3C2-4366-9D5F-9D81388E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95E7-BBEB-4CA2-89BA-3C51576F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AEE-EB3E-4459-B609-66871CC2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8AC7-8739-43FA-BC81-1044513F0471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13 Forma libre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14 Forma libre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12 Forma libre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15 Forma libre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16 Forma libre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17 Forma libre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18 Forma libre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19 Forma libre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20 Forma libre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21 Forma libre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22 Forma libre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23 Forma libre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24 Forma libre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25 Forma libre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26 Forma libre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6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7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8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9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10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11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970A-D4C1-49BC-A2E4-6B801A5A890E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CA08-BA94-42D0-AEC2-FA5F6A6B66EE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24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15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16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17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18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19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20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21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28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29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21EA-CDE2-49C6-9AD1-7EF3B24A8107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B1C0-5DEC-4F03-9066-4D73BE093E28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9 Grupo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266" name="14 Conector recto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15 Conector recto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16 Conector recto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13 Grupo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270" name="10 Conector recto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11 Conector recto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12 Conector recto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17 Grupo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274" name="18 Conector recto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19 Conector recto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20 Conector recto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F892-4770-461B-ADE7-D28081F63A80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logo_sena%5B1%5D"/>
          <p:cNvPicPr/>
          <p:nvPr/>
        </p:nvPicPr>
        <p:blipFill>
          <a:blip r:embed="rId1"/>
          <a:stretch/>
        </p:blipFill>
        <p:spPr>
          <a:xfrm>
            <a:off x="1835280" y="907920"/>
            <a:ext cx="5257800" cy="53787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onsolas"/>
              </a:rPr>
              <a:t>SISTEMAS DE INFORMACION DELL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Presentado a: Profesor Henry Vargas Díaz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Aprendices    : Diana Leguizam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Amadeo Gasc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Brandon Viva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Elizabeth Ariz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Sonia Pinz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990000"/>
                </a:solidFill>
                <a:latin typeface="Consolas"/>
              </a:rPr>
              <a:t>SISTEMAS DE INFORMACION PARA LA FIJACION DE                    PRECIOS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77240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ORDENES DIRECTAS VIA TEL O INTERNE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DEMANDA REAL DE LOS CLIENT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COSTES DE BUSQUEDA CONSUMIDOR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COMPARAR PRECIOS A ESCALA GLOBA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FLUJOS DE TRANSACC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PERSONALIZAC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CAPACIDAD DE RESPUEST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MAS BARATA DEBIDO AL FLUJO DE INFORMACION CLIENTES  PROVEEDOR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990000"/>
                </a:solidFill>
                <a:latin typeface="Consolas"/>
              </a:rPr>
              <a:t>TRANSPORTE DE LA INFORMAC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49" name="Picture 5" descr="Dibujo"/>
          <p:cNvPicPr/>
          <p:nvPr/>
        </p:nvPicPr>
        <p:blipFill>
          <a:blip r:embed="rId1"/>
          <a:stretch/>
        </p:blipFill>
        <p:spPr>
          <a:xfrm>
            <a:off x="1258920" y="1052640"/>
            <a:ext cx="6842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nsolas"/>
              </a:rPr>
              <a:t>INVENTARIOS</a:t>
            </a:r>
            <a:r>
              <a:rPr b="0" lang="es-CO" sz="40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826920" y="1413000"/>
            <a:ext cx="749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NO HAY </a:t>
            </a:r>
            <a:r>
              <a:rPr b="1" i="1" lang="es-CO" sz="1800" spc="-1" strike="noStrike">
                <a:solidFill>
                  <a:srgbClr val="990000"/>
                </a:solidFill>
                <a:latin typeface="Arial"/>
              </a:rPr>
              <a:t>STOCK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DE PRODUCTO TERMIN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ESTE MODELO ACUMULA TAN SÓLO 5 DÍAS DE INVENT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LOS PROVEEDORES TIENEN LA CAPACIDAD DE REABASTEC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LOS INVENTARIOS CON REGULA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LOS BAJOS NIVELES DE INVENT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ETIQUETAS DE INVENTARIO EN SUS SISTEMAS ANTES DEL ENVÍ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EL COSTO DE ENSAMBLE ES C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nsolas"/>
              </a:rPr>
              <a:t>SEGURIDAD DE ACTIV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PREVIENEN LA PÉRDIDA O ROBO MEDIANTE LA INTEGRACIÓN DE FÁBRICA DE VARIOS DISPOSITIVOS ANTIRROBO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ETIQUETA ANTIRROBO STOPTRAC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ETIQUETA ANTIRROBO T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66960" y="3106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nsolas"/>
              </a:rPr>
              <a:t>METRICAS DE INFORMACION</a:t>
            </a:r>
            <a:r>
              <a:rPr b="0" lang="es-CO" sz="40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3 Rectángulo"/>
          <p:cNvSpPr/>
          <p:nvPr/>
        </p:nvSpPr>
        <p:spPr>
          <a:xfrm>
            <a:off x="966960" y="1052640"/>
            <a:ext cx="7134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 DESARROLLA UNA ESTRATEGIA PARA DAR  ATENCIÓN PERSONALIZADA  A CADA NECESIDAD DE SUS CLIENTES, ESTA SE REDEFINE CADA DÍA CON CLARIDAD  DANDO UN BUEN HORIZONTE DE PRONOST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OFRECE UNA ALTA FRECUENCIA DE ACTUALIZACIÓN AL PERMITIR QUE SUS CLIENTES  EN EL  SITIO WEB  RESUELVAN PROBLEMAS CON SUS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61" name="1 Rectángulo"/>
          <p:cNvSpPr/>
          <p:nvPr/>
        </p:nvSpPr>
        <p:spPr>
          <a:xfrm>
            <a:off x="927000" y="692280"/>
            <a:ext cx="7489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 RESOLVER DIARIAMENTE LOS PROBLEMAS DE SUS CLIENTES  (HARDWARE Y SOFTWARE) DELL  TIENE UN PRONOSTICO DE SU DEMANDA EXAC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INTEGRA A SU EMPRESA  CLIENTES Y PROVEEDORES LO QUE LE PERMITE TENER UNA GESTIÓN ÁGIL A MEDIDA QUE ENTREGA SUS PRODU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63" name="1 Rectángulo"/>
          <p:cNvSpPr/>
          <p:nvPr/>
        </p:nvSpPr>
        <p:spPr>
          <a:xfrm>
            <a:off x="826920" y="1052640"/>
            <a:ext cx="741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CUENTA CON CUIDADO EN LA WEB Y EN SUS SERVICIOS  UN SOPORTE ADECUADO ANTES Y DESPUÉS DE LA COMP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ELIMINA DE SU LISTA A LOS REVENDEDORES DE SUS PRODUCTOS ESTO LE PERMITE BRINDAR PRECIOS MAS ATRACTIVOS QUE LOS DE LA COMPET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orbel"/>
              </a:rPr>
              <a:t>GRACIAS POR SU ATENCION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onsolas"/>
              </a:rPr>
              <a:t>SISTEMAS DE INFORMACION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990000"/>
                </a:solidFill>
                <a:latin typeface="Consolas"/>
              </a:rPr>
              <a:t>CADENA DE SUMINISTR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rbel"/>
              </a:rPr>
              <a:t>Dell es una compañía líder mundial de ventas por Internet , mantiene una estrecha y satisfactoria relación directa  con sus clientes sin intermediarios y solo vende por pedido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s-CO" sz="3600" spc="-1" strike="noStrike">
                <a:solidFill>
                  <a:srgbClr val="000000"/>
                </a:solidFill>
                <a:latin typeface="Corbel"/>
              </a:rPr>
              <a:t>El éxito de la compañía se debe exclusivamente a su modelo de cadena de suministros  llamado alianza de suministros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s-CO" sz="2800" spc="-1" strike="noStrike">
                <a:solidFill>
                  <a:srgbClr val="0000ff"/>
                </a:solidFill>
                <a:latin typeface="Corbel"/>
              </a:rPr>
              <a:t>CLIENTES </a:t>
            </a:r>
            <a:r>
              <a:rPr b="0" lang="es-CO" sz="28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0" lang="es-CO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s-CO" sz="2800" spc="-1" strike="noStrike">
                <a:solidFill>
                  <a:srgbClr val="990000"/>
                </a:solidFill>
                <a:latin typeface="Corbel"/>
              </a:rPr>
              <a:t>MANUFACTURA</a:t>
            </a:r>
            <a:r>
              <a:rPr b="0" lang="es-CO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s-CO" sz="2800" spc="-1" strike="noStrike">
                <a:solidFill>
                  <a:srgbClr val="0000ff"/>
                </a:solidFill>
                <a:latin typeface="Corbel"/>
              </a:rPr>
              <a:t>PROVEEDOR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3132000" y="4869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2987640" y="479736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27288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2" name="3 Marcador de contenido" descr=""/>
          <p:cNvPicPr/>
          <p:nvPr/>
        </p:nvPicPr>
        <p:blipFill>
          <a:blip r:embed="rId1"/>
          <a:stretch/>
        </p:blipFill>
        <p:spPr>
          <a:xfrm>
            <a:off x="500040" y="414360"/>
            <a:ext cx="82836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ff"/>
                </a:solidFill>
                <a:latin typeface="Consolas"/>
              </a:rPr>
              <a:t>INFORMACION CON LOS CLIENTE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14400" y="1125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1. El poder de negociación con el client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2. Manejo de bajos costos, venta direct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3. Calidad en sus productos y servicios,     velocidad en sus tiempos de entreg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4.Primera empresa en utilizar el comercio       electrónico con éxit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5.Conexión directa con el client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ff"/>
                </a:solidFill>
                <a:latin typeface="Consolas"/>
              </a:rPr>
              <a:t>INFORMACION CON LOS CLIENTE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77724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6.Elimina la figura del intermediari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7. La fabricación contra pedid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8. El producto es totalmente configurable por el client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9. Toma del pedido por Internet / teléfon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10.Observa demanda real antes que la competenci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11.Reacción rápida a las necesidades de los client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990000"/>
                </a:solidFill>
                <a:latin typeface="Consolas"/>
              </a:rPr>
              <a:t>TECNOLOGIAS DE INFORMACION  ADECUADAS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Intercambio electrónico de dato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Interne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</a:t>
            </a: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ERP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(Sistemas de Planeacion de recursos empresariales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</a:t>
            </a: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 SCM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(Software administrativo de la cadena de suministro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</a:t>
            </a: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RFID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(Identificación por radio frecuencia</a:t>
            </a:r>
            <a:r>
              <a:rPr b="0" lang="es-CO" sz="30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s-CO" sz="2800" spc="-1" strike="noStrike">
                <a:solidFill>
                  <a:srgbClr val="990000"/>
                </a:solidFill>
                <a:latin typeface="Consolas"/>
              </a:rPr>
              <a:t>FIJACION DE PRECIOS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LA COMPAÑÍA DECIDE CUANTO COBRA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IGUALA OFERTA Y DEMAND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AFECTA EL NIVEL Y EL TIPO DE DEMAND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ESTRATEGIA COMPETITIV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3:32:34Z</dcterms:created>
  <dc:creator>Interventoria_Sur</dc:creator>
  <dc:description/>
  <dc:language>en-US</dc:language>
  <cp:lastModifiedBy>Amadeo</cp:lastModifiedBy>
  <dcterms:modified xsi:type="dcterms:W3CDTF">2012-05-10T00:25:27Z</dcterms:modified>
  <cp:revision>54</cp:revision>
  <dc:subject/>
  <dc:title>Diapositiva 1</dc:title>
</cp:coreProperties>
</file>